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61035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8CDB-4C48-444D-9FDF-92BD1F887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2F4E-418B-4966-AF43-B64AFEDF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548A-367C-497C-B669-7A0DF07AB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695C-2AF0-4F9E-BA20-674DB7159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C7DE-FB60-4016-9664-AA0F72E59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F392-2D67-453F-A7A8-BBF44467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CB6C-2864-404D-B009-25442D0F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B47E-3496-44C0-B012-EA64D139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1C87-546C-45FC-9B66-0876F7C1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29DB-657E-46B6-8265-BDD13D7E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450A-9938-451F-AB89-2645A404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C58D-BD82-4A63-85EF-4DC7E45F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928D-1587-47A2-980A-9B09BCF6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605C-82C7-44C3-B8FA-78FD7F21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89A3-998F-4815-A5CF-B27EF3ED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985DD-F12D-4BF6-BB56-FEF1B538D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9740D-4B3B-42B9-A806-3138060B9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0559-4D83-403C-BC9A-1AADF169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88EC-EF5A-4D2D-9046-440A16AF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271B-581D-40B9-88D1-E335DAF0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675D-11EE-47A8-9FEC-730E32A8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1939-68B8-4332-BEB4-7DE176D9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9AC7-334E-4339-B60B-3CDC66B2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90F0-061E-4E31-9E37-4D56C957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86CD-B7F2-4F57-8381-5EB989B10357}" type="slidenum">
              <a:rPr b="0" lang="sr-Latn-C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40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Line 41"/>
          <p:cNvSpPr/>
          <p:nvPr/>
        </p:nvSpPr>
        <p:spPr>
          <a:xfrm>
            <a:off x="6084720" y="6597720"/>
            <a:ext cx="273708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Line 42"/>
          <p:cNvSpPr/>
          <p:nvPr/>
        </p:nvSpPr>
        <p:spPr>
          <a:xfrm>
            <a:off x="8820000" y="587700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" name="Line 43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40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6" name="Line 41"/>
          <p:cNvSpPr/>
          <p:nvPr/>
        </p:nvSpPr>
        <p:spPr>
          <a:xfrm>
            <a:off x="6084720" y="6597720"/>
            <a:ext cx="273708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7" name="Line 42"/>
          <p:cNvSpPr/>
          <p:nvPr/>
        </p:nvSpPr>
        <p:spPr>
          <a:xfrm>
            <a:off x="8820000" y="587700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8" name="Line 43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49" name="Picture 42" descr=""/>
          <p:cNvPicPr/>
          <p:nvPr/>
        </p:nvPicPr>
        <p:blipFill>
          <a:blip r:embed="rId2"/>
          <a:stretch/>
        </p:blipFill>
        <p:spPr>
          <a:xfrm>
            <a:off x="1979640" y="68400"/>
            <a:ext cx="5040360" cy="1199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F29C-E5FB-4D41-9B71-3D3811E59790}" type="slidenum">
              <a:rPr b="0" lang="sr-Latn-C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8280" y="1413000"/>
            <a:ext cx="82170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ТЕГРИСА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КАДЕМСКЕ СТУДИЈЕ ФАРМАЦИЈЕ</a:t>
            </a:r>
            <a:br>
              <a:rPr sz="2400"/>
            </a:b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В18 Фармакологиј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50560" y="3481560"/>
            <a:ext cx="856908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МУНОСУПРЕСИВНИ ЛЕКО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МУНОСТИМУЛАНС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. недељ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оц. др Оливера Милованови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800" spc="-1" strike="noStrike">
                <a:solidFill>
                  <a:srgbClr val="000000"/>
                </a:solidFill>
                <a:latin typeface="Calibri"/>
              </a:rPr>
              <a:t>Инхибитори пролиферацијских сигнала ( сиролимус и еверолимус, темсиролимус)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Сиролимус се примењује као монотерапија или као комбинована терапија ( са кортикостероидима, циклоспорином, такролимусос или микофенолат мофетилом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Нежељени ефекти: тешка мијелосупресија (тромбоцитопенија!!!), хепатотоксичност, ГИТ тегобе, хипертриглицеридемија, главобоља, пнеумонити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800" spc="-1" strike="noStrike">
                <a:solidFill>
                  <a:srgbClr val="000000"/>
                </a:solidFill>
                <a:latin typeface="Calibri"/>
              </a:rPr>
              <a:t>Нису нефротоксични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800" spc="-1" strike="noStrike">
                <a:solidFill>
                  <a:srgbClr val="000000"/>
                </a:solidFill>
                <a:latin typeface="Calibri"/>
              </a:rPr>
              <a:t>Темсиролимус- није у употреби као имуносупреси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800" spc="-1" strike="noStrike">
                <a:solidFill>
                  <a:srgbClr val="000000"/>
                </a:solidFill>
                <a:latin typeface="Calibri"/>
              </a:rPr>
              <a:t>Еверолимус- ефикасност иста као код сиролимуса, већа биоискористљивост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Цитостатиц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50560" y="1599840"/>
            <a:ext cx="8569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Лекови који сузбијају имуни одговор путем ометања синтезе нуклеинских киселина ( у току имунског одгвора долази до експлозивне деобе лимфоцит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ао имуносупресиви дају се у малим дозама, континуиран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Циклофосфами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Један од делотворнији тренутно постојећих имуносупреси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лкилирајући агенс; хлор-етил-амин везује за нуклеинску базу у ДНК и доводи до грешака приликом реплика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ежељена дејства: неутропенија, тромбоцитопенија, алопеција, хеморагични циститис, мучнина, повраћање, кардиотоксичност и електролитни дисбалан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Цитостатиц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50560" y="141264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Азатиопри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рекусор меркаптопурина, омета нормалну синтезу ДН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еркаптопурин се као лажни нуклеотид уграђује у ДНК које се брзо деле тако да при поновној репликацији долази до грешака и смрти ћелиј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меркаптопурин нежељена дејства: оштећење крве лозе, анемије, леукопеније и тромбоцитопеније, хепатотоксичнос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Апсорпција азатиоприна из ГИТ-а: добра; метаболизам: јетра; елиминација: путем бубрега; Т</a:t>
            </a:r>
            <a:r>
              <a:rPr b="0" lang="sr-RS" sz="2200" spc="-1" strike="noStrike" baseline="-25000">
                <a:solidFill>
                  <a:srgbClr val="000000"/>
                </a:solidFill>
                <a:latin typeface="Calibri"/>
              </a:rPr>
              <a:t>1/2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= 5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римењује се као комбинована терапија са кортикостероидим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ежењена дејства азатиоприна: супресија костне сржи, склоност ка инфекцијама, ГИТ тегобе (повећавају се са већом дозом), канцерогенос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200" spc="-1" strike="noStrike">
                <a:solidFill>
                  <a:srgbClr val="000000"/>
                </a:solidFill>
                <a:latin typeface="Calibri"/>
              </a:rPr>
              <a:t>Азатиоприн+ алопуринол!!!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( доза азатиоприна се мора смањити за четвртину до трећине 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Цитостатиц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50560" y="1341360"/>
            <a:ext cx="8569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етотрекс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714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аналог фолне киселине, блокира се дихидрофолат-редуктаза, ↓ тетрахидрофолна киселина 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мета се функционисање ензима чији је кофактор метил-тетрахидрофолна киселин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714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локадом ензима тимидилат-синтетазе онемогућава стварање тимидилата, једног од 4 нуклеотида неопходних за синтезу ДНК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714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Анемија, леукопенија, тромбоцитопен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714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Цитостатиц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79280" y="1484280"/>
            <a:ext cx="8640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Микофенолат мофети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инхибитор синтезе гуанози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након оралне примене апсорпција је добра; поред оралне могућа је и интравенска приме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Метаболизам: јетра ( </a:t>
            </a:r>
            <a:r>
              <a:rPr b="1" lang="sr-RS" sz="1600" spc="-1" strike="noStrike">
                <a:solidFill>
                  <a:srgbClr val="000000"/>
                </a:solidFill>
                <a:latin typeface="Calibri"/>
              </a:rPr>
              <a:t>микофенолна киселина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- активан облик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Нежељена дејства: ГИТ тегове ( мучнина, повраћање, дијареја, абдоминални бол), главобоља, хипертензија, реверзибилна мијелосупресија ( неутропенија!!!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Лефлуноми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Пролек од којег настаје активни облик који инхибира синтезу пиримиди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Активна облик има време полуелиминације  од неколико недељ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Лечење се почиње ударном дозома, а након постизања равнотеже лек се примењује једном дневн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Хепатотоксичност, нефротоксичнос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Хидроксихлорок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Антималарик, повећава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pH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 итраћелијских органела и омета процесирање антиге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Антилимфоцитни и антитимоцитни глобули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4000" y="148392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адрже антитела анималног порекла против лимфоцита из крви или против лимфоцита из тимус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ндикације: спречавање одбацивања транспланта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ежељена дејства: анафилактичка реакција, серумска боле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Муромона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Моноклонско антитело, везује се за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CD3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антиген на Т лимфоцитима чиме се инхибира активација Т лимфоцита, постаје нефункционала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дикације: превенција одбацивања трансплантата бубрега, јетре или срца, као и за смањење броја Т лимфоцита у костној сржи донатора (пре трансплантације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ежељена дејства:  едем плућа, фебрилност, анафилактичка реакција, повраћа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Антилимфоцитни и антитимоцитни глобули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24000" y="1600200"/>
            <a:ext cx="8496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нти-Рх фактор глобул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хуманог порекла ј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примењује се im. У року од  72 часа од порођаја код Рх негативних мајки које су добиле Рх позитивно новорођенч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антитела против Рх- фактора из глобулина облажу еритроците полода који се транспортују у крвоток мајке и тако се спречава сензибилизациј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Нежељени ефекти су ретки, осећај нелагодности на месту апликације,  благо повишена телесна температур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Биолошка“ имуносупресивна терапи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50920" y="1412640"/>
            <a:ext cx="86421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јачана активност TNF-α и IL-1 у основи је многих инфламаторних и аутоимуних обољења. Наведене инфламаторне медијаторе луче макрофаги и моноцити што последично индукује синтезу других инфламаторних параметара и интензивирања инфламац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локатори TNF-α су: инфликсимаб, адалимумаб, етарнерцепт, голимумаб, цертолизума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нтагонисти IL-1: анакин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sr-RS" sz="4000" spc="-1" strike="noStrike">
                <a:solidFill>
                  <a:srgbClr val="000000"/>
                </a:solidFill>
                <a:latin typeface="Calibri"/>
              </a:rPr>
              <a:t>Биолошка“ имуносупресивна терап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Инфликсима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Химерно моноклонско антитело н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TNF-α које настаје спајањем хуманог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Fc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фрагмента и мишијег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Fab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рагмента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ндикације: реуматоидни артритис, Кронова боле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имењује се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iv.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утем..Приликом инфузије инфликсимаба долази до пораста телесне температуре, дрхтавице, бола у грудима,хипо или хипертензије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ао и други лекови из ове групе и он повећава склоност ка озбиљним инфекцијама (као што је нпр..туберкулоза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Биолошка“ имуносупресивна 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Адалимума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Хумано моноклонско антитело, везује се з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TNF-α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и врши његову неутрализацију, тј. инхибира везивање з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TNF рецепторе; смањује концентрацију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CRP-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ндикација: реуматоидни артритис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мњује се путем 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sc.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ињекције, 40 мг два пута месечно најчешће као комбинована терапиј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sr-RS" sz="2600" spc="-1" strike="noStrike" baseline="-25000">
                <a:solidFill>
                  <a:srgbClr val="000000"/>
                </a:solidFill>
                <a:latin typeface="Calibri"/>
              </a:rPr>
              <a:t>1/2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 = 2 недеље ( а за 29-44% је дуже ако се користи заједно са метотрексатом!!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Нежељена дејства: црвенило, бол и оток на месту апликације, повећана склоност ка озбиљним инфекција, демијелинизација (ретко)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000" y="549360"/>
            <a:ext cx="800244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Имуносупресивни леков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79280" y="1447920"/>
            <a:ext cx="864072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муносупресија-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мањење активности имуног систе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мунусупресиви- лекови који смањују активност имуног систе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ндикације за имуносупресивну терапиј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Трансплантација ткива и органа ( превенција и/или терапија одбацивања трансплантат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Аутоимунске боле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линичку употребу имуносупресивне терапије отежавају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озбиљна нежељена дејства!!!!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след  фармаколошког дејства имуносупресива долази до измене имунолошког одговора код пацијената и повећане склоности ка инфекцијама и малигним обољењим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Биолошка“ имуносупресивна 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тарнерцеп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Растворљив рецептор з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TNF-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фекат сличан инфликсимабу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дикације: реуматоидни артритис резистентан на другу терапију и јувенилни идиопатски артритис који не реагује на друге лекове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ењује се путем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sc.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њекције, 25 мг два пута недељ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sr-RS" sz="2400" spc="-1" strike="noStrike" baseline="-25000">
                <a:solidFill>
                  <a:srgbClr val="000000"/>
                </a:solidFill>
                <a:latin typeface="Calibri"/>
              </a:rPr>
              <a:t>1/2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= 115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оже се примењивати у комбинацији са метотрексат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ежељена дејства: локална реакција, сепса, тешке инфекције, демијелинизација и апластична анемија (ретк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Биолошка“ имуносупресивна 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Голимума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NF-α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блокато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дикован је за лечење реуматоидног артритиса, анкилозирајућег спондилитиса и псоријатичног артрити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ежељена дејства: смањена отпорност на инфек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alibri"/>
              </a:rPr>
              <a:t>Цертолизума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ноклонско антитело које се везује за TNF-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рис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лече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мерено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тешко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облик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реуматоидно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артритис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одраслих пацијената, ка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друг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леков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е успевај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нтролишу болест (блокир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ТНФ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мању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запаљењ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Биолошка“ имуносупресивна терапи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накин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отеински препарат,везује се за рецепторе з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IL-1 и тиме се онемогућава деловање ендогеног IL-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фекат слабији од ефекта антагониста TNF-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ењује се поткож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жељена дејства: склоност ка озбиљним инфекцијама, неутропенија, тробоцитопениј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Абатацепт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ритуксимаб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цилизума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батацепт - рекомбинантни протеин који се састоји од 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Fc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фрагмента хуманог 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IgG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антитела и екстраћелијског дела молекула који инхибира Т-лимфоците; такође се може користити у лечењу реуматоидног артритис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итуксимаб - хуманизовано мишје моноклонско антитело које се везује за 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CD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0 антиген на Б-лимфоцитима, доводећи до смрти тих ћелија и смањења имуног одговор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оцилизумаб - моноклонско антитело против рецептора за интерлеукин 6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ва три лека се примењују парентерално (са размаком од једне или више недеља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жељена дејства: слична инхибиторима TNF-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Имуностимулато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560" y="155700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Лекови који врше „појачање“ имунског одгов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ндикације: код болесника са малигним болестима и код особа са урођеним  и стеченим дефицитом имунског система, код хроничних боле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имоз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ешавина пептида ектрахованих из тиму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ндикације: Ди Ђоршијев синдром ( утиче на сазревање прекусора Т- лимфоцит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Фактор стимулације гранулоцитних и макрофагних колонија и фактор стимулације гранулоцитних колон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Имуностимулатор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нтерферо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ри врсте интерферона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нтерферон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се користи у терапији леукемије власастих ћелија, Капосијевог саркома и хроничног хепатитиса Б и Ц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нтерферон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се корист: рецидивантна мултипла склеро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нтерферон 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хронична грануломатозна обоље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усефекти интерферона:  алергијске реакције, синдром сличан грипу ( интерферон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, депресија, мијелосупрес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Имуностимулатор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нтерлеукин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цитокин који интензивира пролиферацију,  диференцијацију и груписање Т и Б лимфоцита, природних „ћелија убица“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римењује се i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ежељена дејства: грозница, повраћање, умор, хипотензија, дијаре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Левамизо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рши активацију макрофага, лимфоцита и гранулоци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скључиво се даје као комбинована терапија са флуороурацилом код колоректалног карционома у стадијуму Дјук 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ежељено дејство: агранулоцито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Имуностимулатор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Имуноглобулин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золовани из плазме обичних давалаца- </a:t>
            </a:r>
            <a:r>
              <a:rPr b="0" i="1" lang="sr-RS" sz="2200" spc="-1" strike="noStrike">
                <a:solidFill>
                  <a:srgbClr val="000000"/>
                </a:solidFill>
                <a:latin typeface="Calibri"/>
              </a:rPr>
              <a:t>гама глобулин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золовани из плазме давалаца који су раније прележали неку инфективну болест- </a:t>
            </a:r>
            <a:r>
              <a:rPr b="0" i="1" lang="sr-RS" sz="2200" spc="-1" strike="noStrike">
                <a:solidFill>
                  <a:srgbClr val="000000"/>
                </a:solidFill>
                <a:latin typeface="Calibri"/>
              </a:rPr>
              <a:t>хиперимуни глобулин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ежељена дејства: анафилактичка реакција; хипотензиј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BCG- 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вакци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ачињена од живих, атенуираних бацила 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Mycobacterium bovis.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..Мурамил-дипептид продукт активира Т-лимфоците  и природне „ћелије убице“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нтравезикална примена код карционама мокраћне бешик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Реакције преосетљивости су нусефека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Имуносупресивни леков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79280" y="1341000"/>
            <a:ext cx="8569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ајвећи број лекова из ове групе остварује терапијски ефекат у индукцији имунолошког одговора; ↓ пролиферација лимфоцита док поједини лекови уз то врше и инхибицију ефекторне фаз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000000"/>
                </a:solidFill>
                <a:latin typeface="Calibri"/>
              </a:rPr>
              <a:t>Подела имуносупресива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Глукокортикоиди (кортикостероид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Инхибитори калцинеурина (циклоспорин и такролимус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Инхибитори пролиферацијских сигнала ( сиролимус и еверолимус, темсиролимус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Цитостатици- лекови који изазивају прекид ћелијског метаболизма са инхибицијом пролиферације  (азатиоприн, метотрексат, циклофосфамид и микофенолат мофетил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Антилимфоцитни и антитимоцитни глобули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Биолошки“ имуносупресив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3600" spc="-1" strike="noStrike">
                <a:solidFill>
                  <a:srgbClr val="000000"/>
                </a:solidFill>
                <a:latin typeface="Calibri"/>
              </a:rPr>
              <a:t>Глукокортикоиди (кортикостероиди</a:t>
            </a:r>
            <a:r>
              <a:rPr b="0" i="1" lang="sr-RS" sz="40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50920" y="1599840"/>
            <a:ext cx="8642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муносупресивни ефекат остварују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↓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броја лимфоцита у циркулацији ( доминантно Т лимфоцита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↓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одукцијом антитела за специфичне антиге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↓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интезе  IL ( посебно IL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линички ефекат у трансплантацији је најинтензивнији ако се примене од почетк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 тј. пре него што дође до успостављања имунског одговора, накнадна примена није повезана са потпуним губитком терапијског ефекта већ са минималним ефектом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15560"/>
            <a:ext cx="7931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Глукокортикоиди (кортикостероиди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Најчешће коришћен имуносупресив из ове групе: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преднизон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per o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Кортикостероиди се као имуносупресиви користе као </a:t>
            </a: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комбинована терапија 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јер је тада терапијски ефекат знатно бољи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Calibri"/>
              </a:rPr>
              <a:t>Монотерапија кортикостероидима се врши ретко: хемолитичка анемија, тромбоцитопенија..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3640" y="549360"/>
            <a:ext cx="85690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4000" spc="-1" strike="noStrike">
                <a:solidFill>
                  <a:srgbClr val="000000"/>
                </a:solidFill>
                <a:latin typeface="Calibri"/>
              </a:rPr>
              <a:t>Глукокортикоиди (кортикостероиди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24000" y="1600200"/>
            <a:ext cx="8362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тежавајућа околност за примену кортикостероида као имуносупресива јесу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бројна нежељена дејства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која се нарочито манифестују код дуготрајне примене!!!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ежељена дејства кортикостероид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остеопороз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атрофија кож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депресиј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хипертензиј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хипергликемиј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катаракт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пептички улкус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Јатрогени Кушингов синдром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супресија коре надбубрежне жлезде ( код дуготрајне примене и наглог прекида терапије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ежељена дејства кортикостероида су дозно зависна и чешћа код дуготрајне примене!!!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Инхибитори калцинеурина (циклоспорин и такролимус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16000" y="1267920"/>
            <a:ext cx="8712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У литератури је за наведене имуносупресиве доступан још један назив </a:t>
            </a:r>
            <a:r>
              <a:rPr b="0" i="1" lang="sr-RS" sz="2200" spc="-1" strike="noStrike">
                <a:solidFill>
                  <a:srgbClr val="000000"/>
                </a:solidFill>
                <a:latin typeface="Calibri"/>
              </a:rPr>
              <a:t>антибиотици- </a:t>
            </a:r>
            <a:r>
              <a:rPr b="0" lang="sr-RS" sz="1700" spc="-1" strike="noStrike">
                <a:solidFill>
                  <a:srgbClr val="000000"/>
                </a:solidFill>
                <a:latin typeface="Calibri"/>
              </a:rPr>
              <a:t>продукти микроорганизама који показују имуносупресивни ефекат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Циклоспори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пептидни антибиотик, липосолубилан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врши блокирање диференцијације Т лимфоцита у раној фази успостављања имунског одговор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Везује се за циклофин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900" spc="-1" strike="noStrike">
                <a:solidFill>
                  <a:srgbClr val="000000"/>
                </a:solidFill>
                <a:latin typeface="Calibri"/>
              </a:rPr>
              <a:t>циклоспорин+циклофин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sr-RS" sz="1900" spc="-1" strike="noStrike">
                <a:solidFill>
                  <a:srgbClr val="000000"/>
                </a:solidFill>
                <a:latin typeface="Calibri"/>
              </a:rPr>
              <a:t>смањење синтезе и ослобађања цитокина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 (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L2, 3, 4 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, интерферон алфа, фактор некрозе тумора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Индикације: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000000"/>
                </a:solidFill>
                <a:latin typeface="Calibri"/>
              </a:rPr>
              <a:t>Одбацивање трансплантата ( комбинована терапија са кориткостероидима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000000"/>
                </a:solidFill>
                <a:latin typeface="Calibri"/>
              </a:rPr>
              <a:t>Реуматоидни артритис, системски лупус еритематозуса, псоријазе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Може се примењивати интравенски или орално ( апсорпција из ГИТ-а спора и непотпуна 20-50%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Главни пут елиминације је у јетри преко цитохрома П450 изоформе 3А!!!!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5" name="Straight Arrow Connector 4"/>
          <p:cNvCxnSpPr/>
          <p:nvPr/>
        </p:nvCxnSpPr>
        <p:spPr>
          <a:xfrm>
            <a:off x="3564000" y="4220640"/>
            <a:ext cx="12960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6" name="TextBox 6"/>
          <p:cNvSpPr/>
          <p:nvPr/>
        </p:nvSpPr>
        <p:spPr>
          <a:xfrm>
            <a:off x="3564000" y="3645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Candara"/>
              </a:rPr>
              <a:t>Инхибиција ензиме калцинеурин фосфатаза </a:t>
            </a:r>
            <a:endParaRPr b="0" lang="en-US" sz="9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Инхибитори калцинеурина (циклоспорин и такролимус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79280" y="155736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Циклоспори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Велики број нежељених ефеката !!! ( </a:t>
            </a:r>
            <a:r>
              <a:rPr b="1" lang="sr-RS" sz="1900" spc="-1" strike="noStrike">
                <a:solidFill>
                  <a:srgbClr val="000000"/>
                </a:solidFill>
                <a:latin typeface="Calibri"/>
              </a:rPr>
              <a:t>нефротоксичност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, хипертензија, хипергликемија, хепатотоксичност, хиперкалемија,промене менталног статуса, конвулзије, хирзутизам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није токсичан за костну срж!!!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комбинована терапија: са кортикостероидима, метотрексатом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Такролимус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муносупресивни макролидни антибиотик, продукује га 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Streotimyces tsukubaen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ако хемијски није идентичан циклоспорину, механизам дејства се преклапа (везује се за имунофилин, настали комплекс инхибира калциеурин неопходан фактор у активацији транскрипцијског фактора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NF-AT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специфичног за Т лимфоцит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ндикације: исте као за циклоспор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мбинована терапија: метотрексат, микофенолат мофети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Може се примењивати орално или интравенск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ежељени ефекти: нефротоксичност, неуротоксичност, хиперглиекмија, хипертензија, хиперкалијемија, ГИТ поремећај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Инхибитори пролиферацијских сигнала ( сиролимус и еверолимус, темсиролимус)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24000" y="1484280"/>
            <a:ext cx="8496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иноним: инхибитори места везивања рапамицина код сисара (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TOR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нхибитори ; мТ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lecul target of rapamyci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Везивање рапамицина је кључни елемент комплексног сигналног система задуженог за раст , метаболизам и пролиферацију ћелија.  Услед блокаде овог везивног места долази до инхибирања стимулативног дејства цитокина на лимфоците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иролимус постоји  само  у формулацији за 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per os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имен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иролимус Т</a:t>
            </a:r>
            <a:r>
              <a:rPr b="0" lang="sr-RS" sz="2400" spc="-1" strike="noStrike" baseline="-25000">
                <a:solidFill>
                  <a:srgbClr val="000000"/>
                </a:solidFill>
                <a:latin typeface="Calibri"/>
              </a:rPr>
              <a:t>1/2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= 6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; Еверолимус Т</a:t>
            </a:r>
            <a:r>
              <a:rPr b="0" lang="sr-RS" sz="2400" spc="-1" strike="noStrike" baseline="-25000">
                <a:solidFill>
                  <a:srgbClr val="000000"/>
                </a:solidFill>
                <a:latin typeface="Calibri"/>
              </a:rPr>
              <a:t>1/2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= 4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псорпција оба лека из ГИТ-а: бр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етаболизам: цитохром П450 3А и П- гликопротеин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1:20:01Z</dcterms:created>
  <dc:creator>Marko</dc:creator>
  <dc:description/>
  <dc:language>en-US</dc:language>
  <cp:lastModifiedBy>User</cp:lastModifiedBy>
  <dcterms:modified xsi:type="dcterms:W3CDTF">2017-09-14T21:59:22Z</dcterms:modified>
  <cp:revision>608</cp:revision>
  <dc:subject>Klinicki farmakolog</dc:subject>
  <dc:title>Verzija za sajt fakulteta</dc:title>
</cp:coreProperties>
</file>